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14360" y="-36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9880" y="703080"/>
            <a:ext cx="46861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902440"/>
            <a:ext cx="307008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14360" y="8902440"/>
            <a:ext cx="30704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1F5D-6ABB-460A-A253-195EE3596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CF25-7615-4A84-8F2C-FCC3767ED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rticipants discuss the answers to these questions in small groups, then bring any questions and comments to the larger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4CF2-BC73-4ABC-B259-0F4B02601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Allow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ample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time for small group and whole group discussion of each of the first two questions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separately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before distributing the handou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Allow about 40 minutes for pairs to work on the open tasks handou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8C58-5A66-47C1-8F1A-B2BF56F72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ngs participants may noti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vision questions always end up with a number divided b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t 4 in dividing fractions shows why ‘invert and multiply’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ther knowledge/skills requir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ood understanding of “howmuchness” of a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nderstanding that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the numerator increases when you multiply a fraction by a whole number (e.g., doubling = more parts of the same size)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the denominator decreases (e.g., doubling makes larger parts, so half as many of the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nderstanding that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the numerator decreases when you divide a fraction by a whole number (e.g., halving cuts the number of parts in two)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the denominator increases (e.g., halving makes smaller parts, so twice as many of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D718-A250-4881-85B9-52A0E5217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Hidden slide – use only if neede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FCAB-BCBF-4473-B306-83328E4B8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0024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7760" y="4451400"/>
            <a:ext cx="5670360" cy="421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Hidden slide – use only if neede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14720" y="8902800"/>
            <a:ext cx="307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896F-7D46-4566-9B92-211FB3EA5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E236-0517-46EF-B2B8-219D0050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2DA-25D8-4250-A390-6AAFF065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2A63-3E46-4FFA-8EB3-63AC1144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2C7E-BED9-4932-8171-450FB30C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39CE-4C26-4128-9F84-DC0FC855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EC6F-2502-4A9C-BADD-DA0DFE65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A499-7F33-4920-8AC6-6F40CB55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89A9-E188-411A-8408-9B2B15D4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B3E0-A882-4C01-B950-94F7919E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D722-AC11-4EBF-8B77-A7E8FAB3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E43F-BF40-4154-8CA1-0E27A50B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4E2-4F7F-49A6-B1E3-08910C53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717C-4FEA-4016-9F5E-FD688465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D2D6-F1FF-46AF-8B0F-5CB5E17E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1971-099A-41F8-A96A-A84CF27A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6134-DF36-4919-8F03-B31E5AC4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9705-D4BB-43F5-8E24-1A75F728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579C-6E9A-460D-8DC3-4436E5A9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238A-7474-4C9F-8E73-3E77AA62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6AE1-C564-4AE8-8B08-A35102F7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ACEE-8BAA-4A9D-9895-2999CCEB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187C-293D-4D95-A380-29C4AF25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97AE-A918-4935-A3BC-A379F956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BFB2-E874-4F85-BF08-03CCD052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F113-66D0-4E51-B6EA-A5AB5437C31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9B71-B1D7-435D-8E97-C999B74FCC4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Arial"/>
              </a:rPr>
              <a:t>Grades 7/8 Breakout Session 4B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ing Sense of Operations with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k with a partner to solve two or three of the open tasks on the hand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 each task, represent your thinking in more than on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ing on the Open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each task o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oes each task support both students who may struggle with fractions and those who may require a challe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this kind of proportional reasoning about fractions help students develop a deeper understanding of operations with f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34920" y="170028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Enjoy a wonderful break </a:t>
            </a:r>
            <a:r>
              <a:rPr b="0" lang="en-US" sz="4800" spc="-1" strike="noStrike">
                <a:solidFill>
                  <a:srgbClr val="0d469b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continue to develop our math talk learning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deepen understanding of 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solve open tasks related to operations with f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al Strategies for Multip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elationships within and among the following sets of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7"/>
          <p:cNvGrpSpPr/>
          <p:nvPr/>
        </p:nvGrpSpPr>
        <p:grpSpPr>
          <a:xfrm>
            <a:off x="826920" y="3716280"/>
            <a:ext cx="6913800" cy="2919600"/>
            <a:chOff x="826920" y="3716280"/>
            <a:chExt cx="6913800" cy="2919600"/>
          </a:xfrm>
        </p:grpSpPr>
        <p:sp>
          <p:nvSpPr>
            <p:cNvPr id="98" name="TextBox 4"/>
            <p:cNvSpPr/>
            <p:nvPr/>
          </p:nvSpPr>
          <p:spPr>
            <a:xfrm>
              <a:off x="826920" y="3716280"/>
              <a:ext cx="122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14 x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28 x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56 x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5"/>
            <p:cNvSpPr/>
            <p:nvPr/>
          </p:nvSpPr>
          <p:spPr>
            <a:xfrm>
              <a:off x="826920" y="544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28 x 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14 x 1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6"/>
            <p:cNvSpPr/>
            <p:nvPr/>
          </p:nvSpPr>
          <p:spPr>
            <a:xfrm>
              <a:off x="3419640" y="3716280"/>
              <a:ext cx="144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16 x 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8 x 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4 x 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7"/>
            <p:cNvSpPr/>
            <p:nvPr/>
          </p:nvSpPr>
          <p:spPr>
            <a:xfrm>
              <a:off x="3419640" y="544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0.5 x 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1.0 x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8"/>
            <p:cNvSpPr/>
            <p:nvPr/>
          </p:nvSpPr>
          <p:spPr>
            <a:xfrm>
              <a:off x="6012360" y="3716280"/>
              <a:ext cx="122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6 x 3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3 x 7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9"/>
            <p:cNvSpPr/>
            <p:nvPr/>
          </p:nvSpPr>
          <p:spPr>
            <a:xfrm>
              <a:off x="5940360" y="5444640"/>
              <a:ext cx="180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0.8 x 7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0.4 x 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Arial"/>
                </a:rPr>
                <a:t>0.2 x 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ving and Doub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this strategy work for multiplying whole numbers and decim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the same strategy work for dividing whole numbers and decim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the halving and doubling strategy with fractions (Mental Strategies for Multiplying Fractions hand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id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other knowledge/skills are required to use this strategy for dividing f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uld you always use this strategy when multiplying or dividing fractions? 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</a:t>
            </a: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ing about Division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an solved             by dividing 15 by 3 and 16 by 8 to get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, using more than one representation if possible, why dividing numerators and dividing denominators ‘works’ to divide fractions.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3587760" y="2549520"/>
            <a:ext cx="1055520" cy="7351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9"/>
          <p:cNvSpPr/>
          <p:nvPr/>
        </p:nvSpPr>
        <p:spPr>
          <a:xfrm>
            <a:off x="4460040" y="-1378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287280" cy="8650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0"/>
          <p:cNvSpPr/>
          <p:nvPr/>
        </p:nvSpPr>
        <p:spPr>
          <a:xfrm>
            <a:off x="4469400" y="185760"/>
            <a:ext cx="205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 (continued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y does dividing numerators and dividing denominators to divide fractions make s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583480" cy="53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82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Mick</cp:lastModifiedBy>
  <dcterms:modified xsi:type="dcterms:W3CDTF">2010-08-09T21:35:09Z</dcterms:modified>
  <cp:revision>215</cp:revision>
  <dc:subject/>
  <dc:title>Slide 1</dc:title>
</cp:coreProperties>
</file>